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627-EE6C-42F4-86A6-C6C0ECBF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383-1876-40C2-898E-0833C774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63D-D734-450D-AB24-B3A66461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956-C502-405F-9800-8C9C90D9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4C54-59AD-4041-8EB0-A4A7D71C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1712-4E62-4C69-A1CB-2035D0CA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7321-2931-4C50-AF6D-2437B27D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A0FC-20EC-456C-B7F0-C7474C52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EDEF-32DA-41E7-B571-80075E80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E61F-39EB-47CF-A9A0-F7674D52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F660-02AA-4085-8DD4-11D21268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E5E-C65D-4700-883C-726288EF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53F4-2C28-477E-9B97-726C465C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ED63-06DE-4CF3-A2D2-A0D73E27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DC8E-7708-45ED-BFF8-567CF01E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FA87-CFFF-48EF-8EF1-3DF9B394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64BC-90DD-4C5B-9C66-F5C7E53C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0AE-A447-4311-A61F-95031D34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237-791A-46B7-9459-A605926B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2D2-C523-4F6D-A783-0CFD6989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242-E133-4DEC-BB14-EC5FFB99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634-D3DD-4E71-AFF9-49B6027E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648-BF34-4348-9E05-320DB524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875-0423-4637-A90B-D7B3AF51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C1CA-7437-489A-BF2C-B8A2BFAD0E94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EFD0-7082-4D28-8BFA-1A814984C485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68263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mbiente de tempo de Execução</a:t>
            </a:r>
            <a:br>
              <a:rPr sz="4600"/>
            </a:b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Sugestão de leitura: Capítulo 7 do livro do Dragão (até 7.3)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Árvore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280" y="1961640"/>
            <a:ext cx="7954920" cy="43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ode ser controlado sinalizando o momento em que se entra e sai de um procedi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cedimentos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recursivo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iciam uma ativação antes que uma anterior tenha sido encerr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Árvore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ão ativações de procedimentos, então seus tempos de vida ou são não sobrepostos ou são aninhados. Isto é, se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é iniciada antes d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r deixada, o controle deve abandona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tes de deixa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Árvore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9280" y="2143080"/>
            <a:ext cx="7954920" cy="403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m uma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árvore de ativação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da nó é uma ativação de um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raiz é a ativação do programa princip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 nó para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é o pai do nó para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e e somente se o controle fluir da ativação de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nodo para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está a esquerda do nodo para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se e somente se o tempo de vida d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ecorrer antes do tempo de vida d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vores de ativação - Exemp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1268280"/>
          <a:ext cx="71276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1276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FS da árvore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fluxo de controle em um programa corresponde a uma travessia em profundidade (depth-first search DFS) da árvore de ativaçõ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FS: começa à raiz, visita um nodo antes de seus filhos, e recursivamente visita os filhos a cada nodo numa ordem da esquerda para a direit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699160" y="1557360"/>
          <a:ext cx="31878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9160" y="1557360"/>
                    <a:ext cx="31878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ilha de Contro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 um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lh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controle, o nodo é empilhado para um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quando esta iniciar, e é desempilhado quando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ermin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conteúdo d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lh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controle está relacionado a percursos até a raiz da árvore de ativaçõ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scopo de uma declar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955280" cy="43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scopo de uma declaraçã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arte do programa ao qual uma declaração se aplica chama-se 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esco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regras de escopo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terminam a declaração de nom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um nome ocorre dentro de um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Global ou não-loc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um nome que ocorre fora de um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marração de nom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80200" cy="48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objeto de dado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responde a uma localização de memó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mbiente mapeia o nome ao objeto de d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ado mapeia o objeto de dado ao valor armazen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tribuições modificam o estado, mas não o amb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nom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stá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amarrado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 um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bjeto de dado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quando 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existe uma associação entre </a:t>
            </a:r>
            <a:r>
              <a:rPr b="0" i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 e </a:t>
            </a:r>
            <a:r>
              <a:rPr b="0" i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Questões relacionadas à organização da memória e amarração de nom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42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procedimentos são recursivo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que acontece aos valores dos nomes locais quando o controle retorna d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um procedimento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m procedimento pode se referir a nomes não-locai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o são transmitidos os parâmetros quando um procedimento é chamado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Questões relacionadas à organização da memória e amarração de nom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procedimentos podem ser transmitidos como parâmetro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procedimentos podem ser retornados como resultado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mór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de ser reservada dinamicamente sob controle do program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mór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ecisa ser liberada explicitament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im de preparar a geração de código, deve-se relacionar o fonte estático do programa às ações em tempo d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ante a execução, o mesmo nome no código fonte pode estar associado a diferentes objetos de dados na máquina alv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Memória em tempo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95492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maneira como um compilador organiza a memória para amarrar nomes determ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uporte a procedimentos recurs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ole do tempo de vida das variáveis loc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ras de referência a nomes não-loc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ssagem de parâmetros em chamada de procedi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ssagem de procedimento como parâmet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ocação dinamica da memó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Memória em tempo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95528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 geral, um programa compilado obtém um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bloco de memór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o sistema operacional para ser execu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e bloco de memória costuma ser dividido 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ção do código alvo ger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ção de objetos de d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lha de controle para ativação de procedi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Memória em tempo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5492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 tamanho do código alvo é estático e estabelecido em tempo de compil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 tamanho de alguns objetos de dados também é estático, determinado em tempo de compil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 controle das chamadas de procedimentos é controlada por uma </a:t>
            </a:r>
            <a:r>
              <a:rPr b="1" i="1" lang="en-GB" sz="3000" spc="-1" strike="noStrike">
                <a:solidFill>
                  <a:srgbClr val="ff0000"/>
                </a:solidFill>
                <a:latin typeface="Arial"/>
              </a:rPr>
              <a:t>pilh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utras informações dinâmicas são alocadas em uma área livre denominada </a:t>
            </a:r>
            <a:r>
              <a:rPr b="1" i="1" lang="en-GB" sz="3000" spc="-1" strike="noStrike">
                <a:solidFill>
                  <a:srgbClr val="ff0000"/>
                </a:solidFill>
                <a:latin typeface="Arial"/>
              </a:rPr>
              <a:t>heap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que cresce para c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Memória em tempo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1365120"/>
            <a:ext cx="2819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1827360"/>
            <a:ext cx="2819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os est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2300400"/>
            <a:ext cx="2819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911760"/>
            <a:ext cx="2819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2778120"/>
            <a:ext cx="28191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89560" y="27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489560" y="361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4797000"/>
            <a:ext cx="8064360" cy="12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ilh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de controle gerencia ativações de procediment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or convenção, a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pilha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cresce para baixo (em direção aos endereços maiores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mória em tempo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do ocorre uma chamada,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um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é interrompida e as informações sobre o estado da máquina, tais como o valor do apontador da próxima instrução e dos registradores de máquina são salvas 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lh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Registro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informações necessárias em uma únic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um procedimento são gerenciadas utilizando-se um único bloco contíguo de armazenamento chamado 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Registro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95528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m procedimento precisa registrar as seguintes informações para ser execut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Valor retornad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contém o valor retornado pela fun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Parâmetros atuai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contém o valor dos parâmetros atu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Elo de controle opcion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aponta para o registro de ativação do procedimento que o cham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Elo de acesso opcion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para acessar dados de outros registros de ativ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Registro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95492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m procedimento precisa registrar as seguintes informações para ser executado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Estado da máquin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condição da máquina antes de executar o procedimento, para o qual deve retorn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Dados locai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variáveis locais ao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Temporário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resultados de express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8880" y="3409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Layout dos Dados Locais em Tempo de Compilaçã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06436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da 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tipo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termina a quantidade de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y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que deve ser reservada a um n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disposição de memória para objetos de dados é influenciada pelas restrições de endereçamento da máquina-al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r isto, é desejável que as instruções que operem sobre dados do mesmo tipo estejam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alinhada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a garantir o alinhamento, pode ser necessário inserir espaços sem uso chamados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enchimento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95492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 projeto de compilador deve incluir estratégias de alocação de memória em cada uma das áreas de d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Alocação de memória estática</a:t>
            </a:r>
            <a:r>
              <a:rPr b="0" lang="en-GB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– não precisa de suporte em tempo de execu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Alocação de memória de pilh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exige suporte para empilhar/desempilhar registros de ativ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Alocação de heap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– suporte para alocação contígua e liberação aleatória de memória em tempo de execu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88880" y="3409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stratégias de alocação de memó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alocação e liberação de objetos de dados é gerenciado pelo ambiente de tempo de execução (runtime environ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ad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de um procedimento é referenciada como um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No caso de chamadas recursivas, várias ativações de um mesmo procedimento estão “vivas” em determinado instante.  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epresentação de um objeto de dados em tempo de execução é determinado pelo seu tip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qüentemente, tipos de dados elementares, tal como caracteres, inteiros e real, podem ser representados por objetos de dados equivalentes na máquina alv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guagem Fon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Procedimentos: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a definição de procedimento é uma declaração que associa um identificador a um enunci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oid listaNomes(int tamList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} 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rocedimen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9280" y="1890360"/>
            <a:ext cx="795492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cedimentos possu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finição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consiste na declaração do procedimento formando por um 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n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rpo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é o enunciado do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arâmetros formai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são os identificadores que aparecem na definição de um procedimento (argument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arâmetros atuai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são passados ao procedimento durante uma cham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rocedimen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955280" cy="488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Funçõe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são procedimentos que retornam val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m procedimento é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chamado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quando seu nome aparece dentro de um enunciado executá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ssim que o procedimento é chamado, seu corpo é execu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 fluxo de controle sequencial dos procedimentos pode ser exibido na forma de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árvores de ativação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dimen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osições sobre o fluxo de controle entre procediment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controle flui seqüencialmente; isto é,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 um programa consiste em uma seqüência de passos, com o controle, a cada passo, em algum ponto específico do programa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 um procedimento começa ao início do corpo do procedimento e eventualmente retorna o controle para o ponto imediatamente seguinte ao local de onde foi chamad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Árvore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95492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Ativação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é a execução do corpo de um procedimento que possui um </a:t>
            </a:r>
            <a:r>
              <a:rPr b="1" i="1" lang="en-GB" sz="3000" spc="-1" strike="noStrike">
                <a:solidFill>
                  <a:srgbClr val="ff0000"/>
                </a:solidFill>
                <a:latin typeface="Arial"/>
              </a:rPr>
              <a:t>tempo de vida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especí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tempo de vida de um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é a seqüência de passos entre o primeiro e o último passos n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do corpo do procedimento, incluindo o tempo utilizado para 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de procedimentos chamad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2:49:25Z</dcterms:created>
  <dc:creator>Marcelo Silva Cintra</dc:creator>
  <dc:description/>
  <dc:language>en-US</dc:language>
  <cp:lastModifiedBy>Marcelo Silva Cintra</cp:lastModifiedBy>
  <dcterms:modified xsi:type="dcterms:W3CDTF">2006-11-23T15:29:45Z</dcterms:modified>
  <cp:revision>51</cp:revision>
  <dc:subject/>
  <dc:title>Ambiente de tempo de Execução</dc:title>
</cp:coreProperties>
</file>